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BCF89A3-902E-4C02-9564-C7BD57E5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5 minutes -- slides 2, 3, &amp;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2F8AD-D6BB-4A99-8AF1-D67F601E52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ick’s theorem says: Count the pegs on the exterior edges of the shape and divide by 2. Then add to this value the number of pegs inside the shape and subtract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rea = outside pegs </a:t>
            </a:r>
            <a:r>
              <a:rPr b="0" lang="en-CA" sz="1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 2 + inside pegs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ヒラギノ角ゴ ProN W3"/>
              </a:rPr>
              <a:t>Pick’s Theorem works for all polygons from rectangles to complex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97C52-5035-48E3-A7B8-F5CBA82F1C5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discuss the questions with another group who did a different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n discuss any interesting findings as a whol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6B63F-2520-488E-A21B-C341963691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M PL 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 for groups of 3 to complete one of the tasks (A or B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LM PL 6.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ach group of 3 will receive all three pages of BLM 6.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a group, they choose which question to tack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E28E3-8CA5-4105-8AA5-27468340282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36860-8377-4EEF-85CF-0B163D56B0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important thing that I learned about linear relations today is …  (5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2AF-E0A0-4D02-9E33-4F72D67D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A69-3946-462B-8129-8CC05C17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4D1-BAA0-4931-A1F1-1A888F83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6C1-315A-470E-BCEC-F985A0C8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683B-5752-49D3-90B3-5DDBE6AE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B08-A624-4E35-9BF6-991C82FA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6FBC-E834-4D32-8716-8238A6C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F793-E112-4A69-A04A-294D824E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75B-2715-4244-AF20-32FA6F7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D95-9460-4240-882E-923513D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9F31-6048-4351-BC79-C8BD3BF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3F7-F01D-46A0-9F51-A90DE8A1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40F-E750-4D81-8622-8001AA2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E392-248A-4DF3-BDAA-488E5E9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474C-42B4-446F-B158-A4DA635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FA18-2E66-400F-B6E2-95C21508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C55-4D15-4938-9E62-539E38B8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837-AC70-4FD0-8C6A-AEEB8D52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DDE-065F-4F36-8DE8-E6DEC4BD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982-938B-4C2B-9D65-9032C7A0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702-295C-4F1D-998B-C107B42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880E-7D4B-409A-AD5C-7119B8F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AA7-59B6-4B19-9191-FE8777F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413-BEDE-4BF1-B28B-4EA58B5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3D7-0B52-42DB-8E90-6E5BCEF2B94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E5F-E047-4E04-AADB-18D22B749C5A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E2B2-47F3-48CE-8499-CD1021D3706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6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09680" y="2095560"/>
            <a:ext cx="8323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In your groups, complete BLM PL 6.1 (Geoboard Task A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OR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3232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i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Use Pick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Surround the triangles with rectangles; calculate the area of the rectangle and subtract the area of ‘unnecessary’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853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Discuss with a group who did the other task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How are the tasks the same? How are they different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stumbling blocks and big ideas are being addressed by the task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1760" indent="-458640">
              <a:lnSpc>
                <a:spcPct val="100000"/>
              </a:lnSpc>
              <a:spcAft>
                <a:spcPts val="28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you notice about the consolidation questions for the task? What other questions could you ask to facilitate student learning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Action - Parallel Task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BLM PL 6.2 (Task A or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Complete one task from BLM PL 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1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solidate -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Strategies for Creating Parallel Tasks: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73200"/>
            <a:ext cx="82296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type of model 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 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Change the method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 </a:t>
            </a:r>
            <a:r>
              <a:rPr b="0" lang="en-CA" sz="2800" spc="-1" strike="noStrike">
                <a:solidFill>
                  <a:srgbClr val="003399"/>
                </a:solidFill>
                <a:latin typeface="Century Gothic"/>
              </a:rPr>
              <a:t>Use open questions or allow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0000" y="1720800"/>
            <a:ext cx="91440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598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The 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The important thing about Parallel Tasks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Century Gothic"/>
              </a:rPr>
              <a:t>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6T02:11:53Z</dcterms:modified>
  <cp:revision>167</cp:revision>
  <dc:subject/>
  <dc:title>Math GAINS 2008-09</dc:title>
</cp:coreProperties>
</file>